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6FB-E151-4197-8C77-DD183DBB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006-316A-4596-8F1D-0CB0DD8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CE2-83C7-440B-AA83-04666F1F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B67-538A-463C-9663-1AA6C860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E4CB5-1CE8-493A-868B-90129465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5CE12-5A48-4D70-8377-2F89974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CFEA5-5971-43AD-867B-98381FF0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FD48-2E0C-4D93-8B84-EE22FE9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127B-4082-48E5-8228-685C24C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61E0C-6DED-45A8-8F10-C194FAA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9D6B4-0EC3-4800-946F-9A78FB5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519-E07E-4D8A-B6A5-3907FA78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C77EB-069A-46A9-8840-992CA3A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BD003-DD75-4A31-BD7B-5755231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BA5F-B4EB-4C28-A7A3-4401BFD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0CD9-8B57-4B04-B334-357CDAE8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98D3-A1B0-4E03-B039-EF10AE6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62C9-B7ED-448B-AE81-D05010A8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ED42-C6E1-4901-9089-47B3E837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D2F7-EFFD-41D0-9587-1F9F40E3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CE10-D60A-44BB-9A90-7FE32310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7AFF-C117-48B9-A8D9-116587D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D56-08E7-4688-8853-A7F4042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699D-6A0A-45D6-83A0-8DE3AEB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A059-C5A6-4917-88E1-DCDDD21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BE86-CA66-423C-920B-B0A9D48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6BB0-7522-48A6-9E16-9BF28031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877F-75B4-4B80-85CC-E054EF4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319D-7E7C-4F85-B111-ACAC4618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DCE5-521C-4EBA-8B11-07C81E19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98BD-9CFF-4E78-833E-E6C86948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B8F1-F080-4BC2-8131-AF31D8D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2F1C-B395-4533-A02B-5D60F45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E36-7179-4CC0-B259-F0C50A9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5AAD-2674-4B9B-BCB5-0C7F1F5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9D56-B082-4D94-88A6-9CC9DAD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EE90-CF2D-4591-9517-88B62065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8DA7-4009-4B1D-9DEF-2C63936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E8C0-A264-4419-91B8-E206A8C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5EB2-01C2-4E7E-9F6B-C0F93C13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B13E-B614-479A-B800-C6314EC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7FDF-D60F-4835-ADE5-16370788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508C-ECAC-46DC-9FC6-4531E9D0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A17-EBAB-4252-A986-492F09E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BB8-61E0-4004-97A5-472173A0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53A-020E-4288-A5C8-2862B30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8BE-8A94-4F71-9EB5-5869A8A2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A81-8DFD-491F-BCFA-8C64651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659-9448-4F9A-9651-293DC674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2C8-4EC3-4C27-A609-E7BCDE61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F751-FC9A-4427-8A04-E46BB320E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6AC-4A0B-4FB1-AC0A-8D5AF841A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Joanna MT"/>
              </a:rPr>
              <a:t> </a:t>
            </a:r>
            <a:r>
              <a:rPr b="0" lang="en-US" sz="7200" spc="-1" strike="noStrike">
                <a:solidFill>
                  <a:srgbClr val="ffcc00"/>
                </a:solidFill>
                <a:latin typeface="Joanna MT"/>
              </a:rPr>
              <a:t>Me Vacacion en Puerto Rico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Joanna MT"/>
              </a:rPr>
              <a:t>Por: Amanda DeBone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66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Script MT Bold"/>
              </a:rPr>
              <a:t>Mi Hotel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Nico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otros lle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mos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i hotel, el Caribre Hilton hoy .Es muy grande y elegante.Tiene una piscina y un balenario. Tiene una playa bonita, tambien. La agua es muy caliente. Los ojos son peq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y la arena es muy suave! Hasta luego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Script MT Bold"/>
              </a:rPr>
              <a:t>Lun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erda Fay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y hace muy caliente! Fui a la playa. En la playa, tome el sol y nade. La agua fue muy fresca. No usa la crema protectora. Tengo muy tostad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4419720"/>
            <a:ext cx="3581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Script MT Bold"/>
              </a:rPr>
              <a:t>Mart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Madd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 muy buen tiempo! Fui a la captain duck tours con mi familia. Fue muy interesante! Despues de, fuimos a la playa. Tomamos el sol y buceamos. Es una dia muy buen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Script MT Bold"/>
              </a:rPr>
              <a:t>Miercol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erda El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tiempo esta muy mal. No fuimos a la playa hoy porque llueve. Fui a la Plaza Carolina con mi hermana, Maryssa. La plaza Carolina es muy grande y bonita! Compre un nuevo camisa, y las gafas de sol. Mi hermana compro los pantalones cortos y un traje de ba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81280" y="4419720"/>
            <a:ext cx="2362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Script MT Bold"/>
              </a:rPr>
              <a:t>Juev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Tia Lor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 sol y calliente! Fuimos a la Juanita Bananas, un resteraunte muy bien, por almuerzo. Tiene una salada muy grande. La comida fue muy delicioso y fresco. Despacha de, fui a la piscina con mi familia. Usamos la crema protectora y nadam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67080" y="39625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Script MT Bold"/>
              </a:rPr>
              <a:t>Viern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Tio Jo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tiempo esta muy bien! No esta nublado, hace sol y hace calor. Fui a la Dorado El Mar con Austin y Maryssa. La Dorado El mar es un campo de golf. Fue muy bien! Yo no gane, mi hermana, Maryssa gano! Despacha de, fui a la playa. Tenamos un picnic. Comamos un sandwich delicioso. Fue una dia muy bien!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441972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4Z</dcterms:created>
  <dc:creator>deboneeama</dc:creator>
  <dc:description/>
  <dc:language>en-US</dc:language>
  <cp:lastModifiedBy>deboneeama</cp:lastModifiedBy>
  <dcterms:modified xsi:type="dcterms:W3CDTF">2011-12-05T19:52:24Z</dcterms:modified>
  <cp:revision>16</cp:revision>
  <dc:subject/>
  <dc:title>Puerto Rico!</dc:title>
</cp:coreProperties>
</file>